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2B6-691C-4296-ABB7-DE6AAFED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A9C-71DC-4FA8-A5FC-8D05ADD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549-D1C4-47AA-BF76-5D087C8D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3E6-9771-4FC1-A17E-8546D15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479-65F3-44AD-A726-256A86FF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A8A-77FC-4235-B663-4ED393F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A86-2095-41E5-8A00-77D26B22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B61-68F4-4088-BE73-0960BCA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283-D2BD-400B-B846-B84BC67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BD3-794A-4A9B-85EF-7FEF688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842-1EAA-428C-9465-3B7E654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B36-7FA9-4CDD-B742-31E1A67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197-D133-4E78-AD02-3C0BA7BE596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1 Krásnu vl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ystá nám Spasiteľ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ásnu vlasť pre svoj ľud chyst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mov pre spasených z mil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ľu tam nebude, ani 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mútku, sĺz, smr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úzkostí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ystá nám Spasiteľ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hriešnom a slzavom údo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rozí smrť žalostným zánik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ľub tvoj však, Pa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náš, dovol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pásy breh z di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k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útn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ystá nám Spasiteľ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ade nech znie tá zvesť radostná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ich si príde vzi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ávy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končí sa naša púť bolest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íbytok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en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ar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11-13T22:00:35Z</dcterms:modified>
  <cp:revision>26</cp:revision>
  <dc:subject/>
  <dc:title>Je veľký náš Pán, on slávy je Kráľ Nech do všetkých strán  spev vrúcnych znie chvál.</dc:title>
</cp:coreProperties>
</file>